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4647-A7AF-4465-9246-8F8FD18D7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1CB7-DA8D-4722-A26F-AF99A991EE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CE8-89E9-4385-B55F-F90DF1F1DA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D1CF-0E18-4D79-BA1C-7C49A81A81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F39-69C2-4B73-9BF1-3006B5F99B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B788-58F8-40EB-BEEA-146D19C7EF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E087-579D-4A42-8E86-D5E27F8A49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C1C8-2C4B-4230-A22E-0952AF3B74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E1BB-0391-42DD-8A45-6CAF4DEEE7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C9FC-EE2A-47AF-BA98-65001C60AB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F4EF-971A-488E-AA0D-D2703DA06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99F6-4890-42DA-B6BB-5780365A86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EE9-C49C-4DA4-A7D6-3ECD41A3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7D4-9197-4067-99D4-3366E5FF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97B-63BA-4F7A-B4E6-882ABD73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008-19F8-45C1-A3CF-12E6FD85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0CAC2-46DA-4EAF-AA8C-1A9F71BA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AA7D1-CF71-4185-8026-8C1AEC2B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F804E-04D2-4AFF-9F99-4040EE27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945D6-C22D-4659-84B6-AEA9A47A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B2CFD-E8D1-4B94-B7C6-A7F01505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0E16A-57A7-452B-B128-043051D6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155E0-BAE9-4937-8E61-9901409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7F5-0559-408E-826D-6618D89C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A18C9-9988-4B9A-87C8-FDC5A0B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9DF29-1129-4B22-8873-C55A4BB9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49705-FA48-4F3E-9635-AEC5AD2B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0D3FB-0965-4180-8C83-B306CA1D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2374B-15F2-4425-A226-D43A6F78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AA4-DA6D-4331-8A0B-543C4DCA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CAC-F92E-49B1-B84C-B5A9832D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498-10F6-4DA8-A460-5E9AA763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CA4-E3EE-4FDF-AF26-7F9A974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5D2-C444-4CB0-B9F4-C32A3161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B20-D9F0-4F36-BF49-B76DBB78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DA4-034B-4003-BF8A-39E27D51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713-74BB-4C66-95E0-5E7C190EC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108-0F58-42D0-BD63-8D02BA161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rrativ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ve Conventions: Genre vs. Classic Hollyw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 from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moves nar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force/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n of events--time subordinate to cause and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story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e-en-Sce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(time, place, pro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ume and Make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Expression and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: System, not Hodgepo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elements link--tornado as cause for Doroth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rip to 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ylistic elements also link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 off to See the Wizard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y--two subsystems (narrative and stylistic) within larger system of the total fil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ve links with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m colors identify prominent land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 movements highlight sto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 describes certain characters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from *Wizard of Oz*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 vs.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is the to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matter and ideas enter into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matter manifested in different ways depending on ideas (Civil War film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s--ABA for Wizard of 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s and experience guide us to recogniz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and feeling: emotion conveyed by actor may result in different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and meaning: meaning (theme) attributed to Wizard of Oz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--is the film good or bad based on it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s of Film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--every element fulfills one or more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ity and repetition--motifs (any significant repeated element in a film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and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--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y/Disunity--loose ends or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ve as a Formal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t and Story--plot includes everything visibly and audibly present in the film, but story is the narrative. Some elements of plot are not part of the story or narr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ve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ings, Closings, Pattern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w of story information--just as with no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6:05:34Z</dcterms:created>
  <dc:creator>Robin Murray</dc:creator>
  <dc:description/>
  <dc:language>en-US</dc:language>
  <cp:lastModifiedBy>Robin Murray</cp:lastModifiedBy>
  <dcterms:modified xsi:type="dcterms:W3CDTF">2011-10-31T19:36:31Z</dcterms:modified>
  <cp:revision>4</cp:revision>
  <dc:subject/>
  <dc:title>Film Form</dc:title>
</cp:coreProperties>
</file>